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783-DD87-4CBC-B6D1-6523D00D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A7A-9AD8-4F0D-BBA8-8CB66DF9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308-9936-4AB1-946D-5851BAFF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52F-B346-4C59-8336-889213B9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B6E-CC5C-4665-AADB-FA73AB04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3B0-F557-4FE0-88CD-AC92F9D0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7BB-D7F4-43FF-8E6B-68E9D07B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254-0D4D-4B65-BC9C-E0A61D62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1C20-0FB0-4B43-9FED-777EC96A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956-1504-4D97-A990-FE324208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184-DC0A-47C8-8925-36C8EDF6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135-9BA8-456E-BB98-1AA45067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768E-BF1E-4039-A512-633F2E624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"/>
              </a:rPr>
              <a:t>Conquistadors</a:t>
            </a:r>
            <a:br>
              <a:rPr sz="4800"/>
            </a:br>
            <a:r>
              <a:rPr b="0" lang="en-US" sz="4800" spc="-1" strike="noStrike">
                <a:solidFill>
                  <a:srgbClr val="0000ff"/>
                </a:solidFill>
                <a:latin typeface="comic"/>
              </a:rPr>
              <a:t>Cortez and Piza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"/>
              </a:rPr>
              <a:t>A presentatio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"/>
              </a:rPr>
              <a:t>Catie Coumounduros</a:t>
            </a: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61720" y="649116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icture from clipart on Microsoft PowerPoint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comic"/>
              </a:rPr>
              <a:t>* Central Mexico- Valley of Me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comic"/>
              </a:rPr>
              <a:t>*Tenochtitlan is the capital (today Mexico 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"/>
              </a:rPr>
              <a:t>* They are polytheistic- believed in many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"/>
              </a:rPr>
              <a:t>*controlled many other tribes, forced them to give them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"/>
              </a:rPr>
              <a:t>*used other tribes human sacrif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"/>
              </a:rPr>
              <a:t>*They were brought down by smallpox A.K.A chicken p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57800" y="3983040"/>
            <a:ext cx="3886200" cy="2874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14000" y="632376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3pas.wikispace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9720" y="7617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Bradley Hand ITC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Bradley Hand ITC"/>
              </a:rPr>
              <a:t>On the Mexican Coast A.K.A Yucatan Penins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Bradley Hand ITC"/>
              </a:rPr>
              <a:t>More than one major city- was harder for conquistadors to overth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Bradley Hand ITC"/>
              </a:rPr>
              <a:t>Regions did not get as much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Bradley Hand ITC"/>
              </a:rPr>
              <a:t>Believed in many gods (polytheis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Bradley Hand ITC"/>
              </a:rPr>
              <a:t>Owned slaves, sometimes they could gain freed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4419360" cy="3357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185080" y="632376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ancountdown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660066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n South America, the Andes Mountains, P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Capital was in Cuz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Believed in many gods (polytheis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re was no written language, but had spoke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Used and practiced animal sacrifice, and on special occasions children sacri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2555640" cy="4724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96720" y="594288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worldencyclopedia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radley Hand ITC"/>
              </a:rPr>
              <a:t>Cortez</a:t>
            </a:r>
            <a:br>
              <a:rPr sz="4400"/>
            </a:b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AND THE AZT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*A Spanish conquis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Traveled with people from Tenochit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Tenochitlan is unusual because it was built in the middle of a lake on an i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Aztecs and Cortez were really polytheistic and believed in a god named Quetzalcoa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The Aztecs leader was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Tenochitlan today is Mexico City, they destroyed Tenochitl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805120" cy="3276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5880" y="5790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.wikipedia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radley Hand ITC"/>
              </a:rPr>
              <a:t>Pizarro</a:t>
            </a:r>
            <a:br>
              <a:rPr sz="4400"/>
            </a:b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AND THE IN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A Spanish conquis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20 million people in Inca civilization covered all through the Andes Mts. and the west coast of S. Amer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Had a powerful organize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They used the medals just as dec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Inca’s fought in the civil war, but were easily conquered by Pizz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352680" y="3962520"/>
            <a:ext cx="2286000" cy="2400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52440" y="64904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iscovermachupicchu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cc00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&amp;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Today most of Central and South America speaks Span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Today majority of peoples in Central and South America are Christian, and no longer worship their native gods. A lot of Aztec, Maya, and Inca culture and traditions have disappeared forever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OW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172200" cy="4314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79600" y="609588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zil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7:37Z</dcterms:created>
  <dc:creator>jklib</dc:creator>
  <dc:description/>
  <dc:language>en-US</dc:language>
  <cp:lastModifiedBy>jklib</cp:lastModifiedBy>
  <dcterms:modified xsi:type="dcterms:W3CDTF">2011-11-28T14:32:25Z</dcterms:modified>
  <cp:revision>6</cp:revision>
  <dc:subject/>
  <dc:title>Conquistadors Cortez and Pizarro</dc:title>
</cp:coreProperties>
</file>